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11.png" ContentType="image/png"/>
  <Override PartName="/ppt/media/image6.png" ContentType="image/png"/>
  <Override PartName="/ppt/media/image13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0.png" ContentType="image/png"/>
  <Override PartName="/ppt/media/image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jpeg" ContentType="image/jpeg"/>
  <Override PartName="/ppt/media/image15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obo" initials="l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<Relationship Id="rId57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4-12-17T15:34:24.953000000" idx="1">
    <p:pos x="5760" y="3552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B79F1-7115-452A-AC61-8BEE355D172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6BFA7-4D68-4CAD-9E92-7CE6002BA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166E5-5583-43F6-97BE-7D24B46B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36C9-6B71-4C0A-BE8E-FA90A1CDEAD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07228-5A4C-4094-974B-1942C47E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76C6-6398-4A6A-B2C9-F5BF1E08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2BDD7-4AEF-459C-812B-AB6394B3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491E1-999D-4EB9-82C4-16DC9CE06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7A878-09C9-40FB-A243-921525CA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BE12C-EBEF-4469-841A-A8726FA9E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8AD60-5B70-4FF0-878A-81BCE7357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8C8B-664B-456D-903E-F7416720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F0E8-4739-42C9-AD43-A760D2435C1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31.xml"/><Relationship Id="rId3" Type="http://schemas.openxmlformats.org/officeDocument/2006/relationships/slide" Target="slide32.xml"/><Relationship Id="rId4" Type="http://schemas.openxmlformats.org/officeDocument/2006/relationships/slide" Target="slide33.xml"/><Relationship Id="rId5" Type="http://schemas.openxmlformats.org/officeDocument/2006/relationships/slide" Target="slide34.xml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" Target="slide28.xml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1916280"/>
            <a:ext cx="5400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第十一章</a:t>
            </a:r>
            <a:br>
              <a:rPr sz="4400"/>
            </a:br>
            <a:r>
              <a:rPr b="1" lang="zh-CN" sz="4400" spc="-1" strike="noStrike">
                <a:solidFill>
                  <a:srgbClr val="fe230c"/>
                </a:solidFill>
                <a:latin typeface="Verdana"/>
                <a:ea typeface="宋体"/>
              </a:rPr>
              <a:t>内分泌系统功能监护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547640" y="1844280"/>
            <a:ext cx="54914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二节 临床监护 </a:t>
            </a:r>
            <a:endParaRPr b="1" lang="en-US" sz="4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587640" y="304560"/>
            <a:ext cx="23274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 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圆角矩形 3"/>
          <p:cNvSpPr/>
          <p:nvPr/>
        </p:nvSpPr>
        <p:spPr>
          <a:xfrm>
            <a:off x="395280" y="1413000"/>
            <a:ext cx="7858080" cy="1500120"/>
          </a:xfrm>
          <a:prstGeom prst="roundRect">
            <a:avLst>
              <a:gd name="adj" fmla="val 1226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患者，唐女士，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岁，因“心悸、双手颤抖半年余”入院，患者入院前半年开始出现心悸、双手颤抖，易出汗、烦躁和激动；近半年食欲增加，体重却下降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5kg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；夜间睡眠时间明显减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矩形 5"/>
          <p:cNvSpPr/>
          <p:nvPr/>
        </p:nvSpPr>
        <p:spPr>
          <a:xfrm>
            <a:off x="468360" y="3141720"/>
            <a:ext cx="7775640" cy="18000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查体：患者双眼突出、甲状腺双叶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度肿大，全身皮肤黏膜完整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实验室检查提示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3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T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剪去单角的矩形 6"/>
          <p:cNvSpPr/>
          <p:nvPr/>
        </p:nvSpPr>
        <p:spPr>
          <a:xfrm>
            <a:off x="395280" y="5300640"/>
            <a:ext cx="8001000" cy="714240"/>
          </a:xfrm>
          <a:prstGeom prst="pie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84360" y="1408680"/>
            <a:ext cx="640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矩形 3"/>
          <p:cNvSpPr/>
          <p:nvPr/>
        </p:nvSpPr>
        <p:spPr>
          <a:xfrm>
            <a:off x="3492360" y="33336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755640" y="1559880"/>
            <a:ext cx="640872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一般评估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患病经过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活史和家族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心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社会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547640" y="1345680"/>
            <a:ext cx="640908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体格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状况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皮肤黏膜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头颈部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肢、脊柱、骨关节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殖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332000" y="1130400"/>
            <a:ext cx="6553080" cy="51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验室检查： 激素及代谢产物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液和尿生化测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影像学检查 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线检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RI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检查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选择性动脉造影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射性核素检查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                                                          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矩形 3"/>
          <p:cNvSpPr/>
          <p:nvPr/>
        </p:nvSpPr>
        <p:spPr>
          <a:xfrm>
            <a:off x="3203640" y="333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病史评估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Rectangle 4"/>
          <p:cNvSpPr/>
          <p:nvPr/>
        </p:nvSpPr>
        <p:spPr>
          <a:xfrm>
            <a:off x="900000" y="2074320"/>
            <a:ext cx="7056720" cy="31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生命体征与意识状态的评估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体温：甲亢危象体温达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0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；甲状腺功能低下体温低于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℃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脉搏：重点监测脉率、心率和心律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呼吸：呼吸频率、节律和形态，不同疾病呼吸异常表现不一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血压：多种内分泌疾病均可引起血压异常，防低血压休克和高血压危象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9144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意识状态评估患者有无嗜睡、意识模糊、表情淡漠、谵妄幻觉、定向障碍、癫痫样抽搐的表现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123640" y="260280"/>
            <a:ext cx="554364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史评估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监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静脉血葡萄糖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空腹葡萄糖测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口服葡萄糖耐量试验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oral glucose tolerance test ,OGTT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）：是指在清晨给成人口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要求之前禁食至少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，采集空腹静脉血后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服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75g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葡萄糖，然后分别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小时采集静脉血测葡萄糖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毛细血管血葡萄糖测定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同时间的快速血糖仪血糖值有着不同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68360" y="1267920"/>
            <a:ext cx="837072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第三节 应激性高血糖患者的护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63280" y="333360"/>
            <a:ext cx="576108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 R 3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问题：患者为什么会出现高血糖现象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应用生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内分泌系统临床监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应激性高血糖患者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糖尿病</a:t>
            </a:r>
            <a:r>
              <a:rPr b="1" lang="en-US" sz="3400" spc="-1" strike="noStrike">
                <a:solidFill>
                  <a:srgbClr val="ffffff"/>
                </a:solidFill>
                <a:latin typeface="Verdana"/>
                <a:ea typeface="宋体"/>
              </a:rPr>
              <a:t>(diabetes mellitus DM)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743200"/>
            <a:ext cx="86104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糖尿病是一组由多病因引起的以</a:t>
            </a: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慢性高血糖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为特征的代谢性疾病，是由于胰岛素分泌和（或）作用缺陷所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  <a:ea typeface="宋体"/>
            </a:endParaRPr>
          </a:p>
        </p:txBody>
      </p:sp>
      <p:pic>
        <p:nvPicPr>
          <p:cNvPr id="177" name="Picture 4" descr="$GZZH4~LP0AM6`ZD1V4IJDP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867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280" y="333360"/>
            <a:ext cx="71629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糖化血红蛋白（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bA1c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4"/>
          <p:cNvSpPr/>
          <p:nvPr/>
        </p:nvSpPr>
        <p:spPr>
          <a:xfrm>
            <a:off x="826920" y="1557360"/>
            <a:ext cx="7561440" cy="4392720"/>
          </a:xfrm>
          <a:prstGeom prst="wedgeRoundRectCallout">
            <a:avLst>
              <a:gd name="adj1" fmla="val -19365"/>
              <a:gd name="adj2" fmla="val -19462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映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正常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%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19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；尿糖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19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宋体"/>
              </a:rPr>
              <a:t>不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完全符合糖尿病条件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一 应激性高血糖的概念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828440"/>
            <a:ext cx="8381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：是指机体在受到严重创伤、脑血管意外、急性心肌梗死、感染、休克等强烈刺激时出现的以血糖升高、尿糖以及糖耐量降低为主要表现的病理现象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认可的标准为：当机体受到强烈刺激时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空腹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6.9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随机血糖≥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1.1mmo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／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为应激性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5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的区别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691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血糖高，糖化血红蛋白正常，是应激性高血糖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若两者同时增高，可能是糖尿病高血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AutoShape 5"/>
          <p:cNvSpPr/>
          <p:nvPr/>
        </p:nvSpPr>
        <p:spPr>
          <a:xfrm>
            <a:off x="971640" y="3068640"/>
            <a:ext cx="7200720" cy="3044880"/>
          </a:xfrm>
          <a:prstGeom prst="wedgeRoundRectCallout">
            <a:avLst>
              <a:gd name="adj1" fmla="val -21847"/>
              <a:gd name="adj2" fmla="val -49893"/>
              <a:gd name="adj3" fmla="val 16667"/>
            </a:avLst>
          </a:prstGeom>
          <a:solidFill>
            <a:srgbClr val="ccffff">
              <a:alpha val="94000"/>
            </a:srgbClr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糖化血红蛋白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HbA1c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：是人体血液中红细胞内的血红蛋白与血糖结合的产物。血糖和血红蛋白结合生成的糖化血红蛋白是不可逆反应，糖化血红蛋白与血糖浓度成正比，测试糖化血红蛋白可以反应患者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的血糖控制情况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例分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143000"/>
            <a:ext cx="7315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詹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X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女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8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岁，因“突发右侧肢体无力伴失语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h”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以脑梗死收入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示：左侧大脑半球大面积出血性脑梗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入院后第二天 ，因“呼吸困难，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SpO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下降”转入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ICU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患者神志处于浅昏迷状态，双侧瞳孔不等大，左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mm,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对光反射迟钝；右侧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4mm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，对光反射灵敏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T 38.2℃ ,HR  90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R 35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次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分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,BP 96/54mmHg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随机指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3.9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生化血糖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2.4mmol/L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；尿糖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++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；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糖化血红蛋白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HbA1c)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5.8%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患者既往无糖尿病史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en-US" sz="2400" spc="-1" strike="noStrike">
                <a:solidFill>
                  <a:srgbClr val="fe230c"/>
                </a:solidFill>
                <a:latin typeface="Verdana"/>
                <a:ea typeface="宋体"/>
              </a:rPr>
              <a:t>考虑</a:t>
            </a:r>
            <a:r>
              <a:rPr b="1" lang="zh-CN" sz="2400" spc="-1" strike="noStrike">
                <a:solidFill>
                  <a:srgbClr val="fe230c"/>
                </a:solidFill>
                <a:latin typeface="Verdana"/>
                <a:ea typeface="宋体"/>
              </a:rPr>
              <a:t>该患者更符合“应激性高血糖”的条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3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09588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应激性高血糖与糖尿病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863360"/>
            <a:ext cx="8610480" cy="38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共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高血糖以及高血糖引起的高渗、高感染、糖耐量降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不同点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在多种应激疾病中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为急性、短时间的血糖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以外周“胰岛素抵抗”为突出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多数应激性高血糖患者血清胰岛素、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肽增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激性高血糖伴随高代谢，以糖异生为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宋体"/>
                <a:ea typeface="宋体"/>
              </a:rPr>
              <a:t>二 应激性高血糖的发生机制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6920" y="1483920"/>
            <a:ext cx="61405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1" action="ppaction://hlinksldjump"/>
              </a:rPr>
              <a:t>神经内分泌参与的激素调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2" action="ppaction://hlinksldjump"/>
              </a:rPr>
              <a:t>胰岛素抵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3" action="ppaction://hlinksldjump"/>
              </a:rPr>
              <a:t>细胞因子作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ea typeface="宋体"/>
                <a:hlinkClick r:id="rId4" action="ppaction://hlinksldjump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0" name="Picture 3" descr="C:\Users\Administrator\Desktop\最终2.jpg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5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333000"/>
            <a:ext cx="6696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内分泌参与的激素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381816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3" name="Picture 4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1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4000" y="1628640"/>
            <a:ext cx="8610480" cy="31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内分泌系统疾病的护理评估方法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内分泌与激素对维持内环境稳定性的重要作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应激性高血糖对机体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评估应激性高血糖患者病情，为其制订护理计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CE9-B81F-4615-A3A6-07D5F4720FC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650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浆中葡萄糖的合成与分解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6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图11-2"/>
          <p:cNvPicPr/>
          <p:nvPr/>
        </p:nvPicPr>
        <p:blipFill>
          <a:blip r:embed="rId3"/>
          <a:stretch/>
        </p:blipFill>
        <p:spPr>
          <a:xfrm>
            <a:off x="684360" y="1127160"/>
            <a:ext cx="73436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7" dur="2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763640" y="-360"/>
            <a:ext cx="4724640" cy="101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机体对胰岛素抵抗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03440" y="1617480"/>
            <a:ext cx="8053200" cy="434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外周组织对葡萄糖的摄取和利用降低，体内存在“高胰岛素、高血糖”水平现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胰岛素抵抗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(IR)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的三种形式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胰岛素的效应器官（靶器官）对胰岛素的敏感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反应性降低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92aa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靶器官对胰岛素的敏感性和反应性均降低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研究表明：危重患者常出现胰岛素抵抗现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0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050560" y="0"/>
            <a:ext cx="5334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细胞因子的作用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381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肿瘤坏死因子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TNF-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1(IL-1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细胞介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-6(IL-6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3" name="Picture 3" descr="C:\Users\Administrator\Desktop\最终2.jpg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533520" y="1447560"/>
            <a:ext cx="50292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某些药物如利尿剂、抗结核药物、肠内肠外营养支持、甲状腺素、生长激素、糖皮质激素、甘露醇等均可导致血糖升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15" name="Picture 3" descr="1305091749532094"/>
          <p:cNvPicPr/>
          <p:nvPr/>
        </p:nvPicPr>
        <p:blipFill>
          <a:blip r:embed="rId1"/>
          <a:stretch/>
        </p:blipFill>
        <p:spPr>
          <a:xfrm>
            <a:off x="5796000" y="3357720"/>
            <a:ext cx="3097080" cy="2581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1349855532"/>
          <p:cNvPicPr/>
          <p:nvPr/>
        </p:nvPicPr>
        <p:blipFill>
          <a:blip r:embed="rId2"/>
          <a:stretch/>
        </p:blipFill>
        <p:spPr>
          <a:xfrm>
            <a:off x="5943600" y="533520"/>
            <a:ext cx="2732040" cy="26226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C:\Users\Administrator\Desktop\最终2.jpg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5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624816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三 应激性高血糖的危害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4"/>
          <p:cNvSpPr/>
          <p:nvPr/>
        </p:nvSpPr>
        <p:spPr>
          <a:xfrm>
            <a:off x="971640" y="1484280"/>
            <a:ext cx="7467480" cy="7336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水电解质和酸碱平衡紊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042920" y="2565360"/>
            <a:ext cx="7391520" cy="1373400"/>
          </a:xfrm>
          <a:prstGeom prst="rect">
            <a:avLst/>
          </a:prstGeom>
          <a:solidFill>
            <a:srgbClr val="3399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免疫力下降，伤口愈合延迟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易发生感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MOD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971640" y="4292640"/>
            <a:ext cx="7467480" cy="733680"/>
          </a:xfrm>
          <a:prstGeom prst="rect">
            <a:avLst/>
          </a:prstGeom>
          <a:solidFill>
            <a:srgbClr val="0066ff"/>
          </a:solidFill>
          <a:ln w="0">
            <a:noFill/>
          </a:ln>
          <a:effectLst>
            <a:outerShdw dist="107932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严重者可导致酮症酸中毒或高渗高血糖综合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1" dur="2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71629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四 应激性高血糖的控制策略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积极控制原发病，尽早脱离应激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首选小剂量胰岛素静脉微量泵入疗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静脉用药添加胰岛素对抗（胰：糖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226" name="AutoShape 5"/>
          <p:cNvSpPr/>
          <p:nvPr/>
        </p:nvSpPr>
        <p:spPr>
          <a:xfrm>
            <a:off x="685800" y="1676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AutoShape 6"/>
          <p:cNvSpPr/>
          <p:nvPr/>
        </p:nvSpPr>
        <p:spPr>
          <a:xfrm>
            <a:off x="685800" y="297180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bevel/>
          </a:ln>
          <a:effectLst>
            <a:outerShdw dist="153753" dir="270000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积极控制原发病，尽早脱离应激原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4120" y="1700280"/>
            <a:ext cx="797256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维持术中循环稳定，改进手术技术，缩短手术时间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术后做好镇静、镇痛、降温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控制好术后血液循环，维持水电解质酸碱平衡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改善心肺功能，降低肺高压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积极预防和抗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16000" y="0"/>
            <a:ext cx="7391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9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危重患者血糖目标</a:t>
            </a: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zh-CN" sz="2400" spc="-1" strike="noStrike">
                <a:solidFill>
                  <a:srgbClr val="0000cc"/>
                </a:solidFill>
                <a:latin typeface="Verdana"/>
                <a:ea typeface="宋体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AutoShape 4"/>
          <p:cNvSpPr/>
          <p:nvPr/>
        </p:nvSpPr>
        <p:spPr>
          <a:xfrm>
            <a:off x="684360" y="3068640"/>
            <a:ext cx="8229600" cy="2808360"/>
          </a:xfrm>
          <a:prstGeom prst="wedgeRectCallout">
            <a:avLst>
              <a:gd name="adj1" fmla="val -25694"/>
              <a:gd name="adj2" fmla="val -84990"/>
            </a:avLst>
          </a:prstGeom>
          <a:solidFill>
            <a:srgbClr val="ccffff"/>
          </a:solidFill>
          <a:ln w="9360">
            <a:solidFill>
              <a:srgbClr val="046ca6"/>
            </a:solidFill>
            <a:miter/>
          </a:ln>
          <a:effectLst>
            <a:outerShdw dist="0" dir="0" blurRad="0" rotWithShape="0">
              <a:srgbClr val="ddddd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血糖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开始静脉小剂量胰岛素治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控制血糖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.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mol/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为目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4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4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2242440"/>
            <a:ext cx="7201080" cy="189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Verdana"/>
                <a:ea typeface="宋体"/>
              </a:rPr>
              <a:t>胰岛素的配制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0.9%NS50ml+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胰岛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U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1U/ml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ml/h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→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U/h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7" name="Picture 4" descr="2005101370889721"/>
          <p:cNvPicPr/>
          <p:nvPr/>
        </p:nvPicPr>
        <p:blipFill>
          <a:blip r:embed="rId1"/>
          <a:stretch/>
        </p:blipFill>
        <p:spPr>
          <a:xfrm>
            <a:off x="4595760" y="4191120"/>
            <a:ext cx="4548240" cy="24145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sp>
        <p:nvSpPr>
          <p:cNvPr id="239" name="AutoShape 6"/>
          <p:cNvSpPr/>
          <p:nvPr/>
        </p:nvSpPr>
        <p:spPr>
          <a:xfrm>
            <a:off x="6248520" y="2514600"/>
            <a:ext cx="152280" cy="76320"/>
          </a:xfrm>
          <a:prstGeom prst="rightArrow">
            <a:avLst>
              <a:gd name="adj1" fmla="val 50000"/>
              <a:gd name="adj2" fmla="val 4988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AutoShape 7"/>
          <p:cNvSpPr/>
          <p:nvPr/>
        </p:nvSpPr>
        <p:spPr>
          <a:xfrm>
            <a:off x="6095880" y="2133720"/>
            <a:ext cx="1219320" cy="228600"/>
          </a:xfrm>
          <a:prstGeom prst="rightArrow">
            <a:avLst>
              <a:gd name="adj1" fmla="val 50000"/>
              <a:gd name="adj2" fmla="val 13334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0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899640" y="907920"/>
            <a:ext cx="718668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Garamond"/>
                <a:ea typeface="宋体"/>
              </a:rPr>
              <a:t>胰岛素的用量</a:t>
            </a:r>
            <a:endParaRPr b="1" lang="en-US" sz="4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根据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血糖水平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和</a:t>
            </a:r>
            <a:r>
              <a:rPr b="1" lang="zh-CN" sz="2600" spc="-1" strike="noStrike">
                <a:solidFill>
                  <a:srgbClr val="ff3300"/>
                </a:solidFill>
                <a:latin typeface="Verdana"/>
                <a:ea typeface="宋体"/>
              </a:rPr>
              <a:t>变化幅度</a:t>
            </a:r>
            <a:r>
              <a:rPr b="1" lang="zh-CN" sz="2600" spc="-1" strike="noStrike">
                <a:solidFill>
                  <a:srgbClr val="8ac8de"/>
                </a:solidFill>
                <a:latin typeface="Verdana"/>
                <a:ea typeface="宋体"/>
              </a:rPr>
              <a:t>调节胰岛素的用量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</a:t>
            </a:r>
            <a:endParaRPr b="1" lang="en-US" sz="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2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848720" y="5562720"/>
            <a:ext cx="1218960" cy="1218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4" descr="QQ图片20141218203706"/>
          <p:cNvPicPr/>
          <p:nvPr/>
        </p:nvPicPr>
        <p:blipFill>
          <a:blip r:embed="rId2"/>
          <a:stretch/>
        </p:blipFill>
        <p:spPr>
          <a:xfrm>
            <a:off x="533520" y="2743200"/>
            <a:ext cx="807696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6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187280" y="1844280"/>
            <a:ext cx="676944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第一节 内分泌系统应用生理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050920" y="0"/>
            <a:ext cx="4648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下降的幅度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血糖下降的速度太快，容易造成脑水肿和低血糖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5" descr=""/>
          <p:cNvPicPr/>
          <p:nvPr/>
        </p:nvPicPr>
        <p:blipFill>
          <a:blip r:embed="rId2"/>
          <a:stretch/>
        </p:blipFill>
        <p:spPr>
          <a:xfrm>
            <a:off x="1676520" y="3276720"/>
            <a:ext cx="6019560" cy="220968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6"/>
          <p:cNvSpPr/>
          <p:nvPr/>
        </p:nvSpPr>
        <p:spPr>
          <a:xfrm>
            <a:off x="7354440" y="4913280"/>
            <a:ext cx="122796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宋体"/>
              </a:rPr>
              <a:t>/h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/>
          <p:cNvSpPr/>
          <p:nvPr/>
        </p:nvSpPr>
        <p:spPr>
          <a:xfrm>
            <a:off x="502920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8ac8de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547640" y="333360"/>
            <a:ext cx="5160960" cy="42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动态调整胰岛素用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AutoShape 4"/>
          <p:cNvSpPr/>
          <p:nvPr/>
        </p:nvSpPr>
        <p:spPr>
          <a:xfrm>
            <a:off x="762120" y="3733920"/>
            <a:ext cx="3352680" cy="2286000"/>
          </a:xfrm>
          <a:prstGeom prst="roundRect">
            <a:avLst>
              <a:gd name="adj" fmla="val 10347"/>
            </a:avLst>
          </a:prstGeom>
          <a:solidFill>
            <a:srgbClr val="ffffff"/>
          </a:solidFill>
          <a:ln w="50760">
            <a:solidFill>
              <a:srgbClr val="969696"/>
            </a:solidFill>
            <a:miter/>
          </a:ln>
          <a:effectLst>
            <a:outerShdw dist="107932" dir="81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2" name="Group 5"/>
          <p:cNvGrpSpPr/>
          <p:nvPr/>
        </p:nvGrpSpPr>
        <p:grpSpPr>
          <a:xfrm>
            <a:off x="3505320" y="1828800"/>
            <a:ext cx="790560" cy="1976400"/>
            <a:chOff x="3505320" y="1828800"/>
            <a:chExt cx="790560" cy="1976400"/>
          </a:xfrm>
        </p:grpSpPr>
        <p:sp>
          <p:nvSpPr>
            <p:cNvPr id="253" name="Freeform 6"/>
            <p:cNvSpPr/>
            <p:nvPr/>
          </p:nvSpPr>
          <p:spPr>
            <a:xfrm>
              <a:off x="3697560" y="182880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Freeform 7"/>
            <p:cNvSpPr/>
            <p:nvPr/>
          </p:nvSpPr>
          <p:spPr>
            <a:xfrm>
              <a:off x="3505320" y="227484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Text Box 8"/>
          <p:cNvSpPr/>
          <p:nvPr/>
        </p:nvSpPr>
        <p:spPr>
          <a:xfrm>
            <a:off x="1143000" y="4038480"/>
            <a:ext cx="2438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U/h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＜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增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0.5U/h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5334120" y="4114800"/>
            <a:ext cx="2819160" cy="14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1~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胰岛素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速度不变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;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＞ 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4.1mmol/L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，降低胰岛素</a:t>
            </a:r>
            <a:r>
              <a:rPr b="1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50%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3345120" y="1219320"/>
            <a:ext cx="32137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根据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宋体"/>
              </a:rPr>
              <a:t>最近两次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宋体"/>
              </a:rPr>
              <a:t>血糖值调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Rectangle 11"/>
          <p:cNvSpPr/>
          <p:nvPr/>
        </p:nvSpPr>
        <p:spPr>
          <a:xfrm>
            <a:off x="3332160" y="2362320"/>
            <a:ext cx="1141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9" name="Group 12"/>
          <p:cNvGrpSpPr/>
          <p:nvPr/>
        </p:nvGrpSpPr>
        <p:grpSpPr>
          <a:xfrm>
            <a:off x="4876920" y="2209680"/>
            <a:ext cx="790560" cy="1976400"/>
            <a:chOff x="4876920" y="2209680"/>
            <a:chExt cx="790560" cy="1976400"/>
          </a:xfrm>
        </p:grpSpPr>
        <p:sp>
          <p:nvSpPr>
            <p:cNvPr id="260" name="Freeform 13"/>
            <p:cNvSpPr/>
            <p:nvPr/>
          </p:nvSpPr>
          <p:spPr>
            <a:xfrm>
              <a:off x="5069160" y="2209680"/>
              <a:ext cx="369720" cy="403200"/>
            </a:xfrm>
            <a:custGeom>
              <a:avLst/>
              <a:gdLst>
                <a:gd name="textAreaLeft" fmla="*/ 0 w 369720"/>
                <a:gd name="textAreaRight" fmla="*/ 370080 w 369720"/>
                <a:gd name="textAreaTop" fmla="*/ 0 h 403200"/>
                <a:gd name="textAreaBottom" fmla="*/ 403560 h 403200"/>
              </a:gdLst>
              <a:ahLst/>
              <a:rect l="textAreaLeft" t="textAreaTop" r="textAreaRight" b="textAreaBottom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4876920" y="2655720"/>
              <a:ext cx="790560" cy="1530360"/>
            </a:xfrm>
            <a:custGeom>
              <a:avLst/>
              <a:gdLst>
                <a:gd name="textAreaLeft" fmla="*/ 0 w 790560"/>
                <a:gd name="textAreaRight" fmla="*/ 790920 w 790560"/>
                <a:gd name="textAreaTop" fmla="*/ 0 h 1530360"/>
                <a:gd name="textAreaBottom" fmla="*/ 1530720 h 1530360"/>
              </a:gdLst>
              <a:ahLst/>
              <a:rect l="textAreaLeft" t="textAreaTop" r="textAreaRight" b="textAreaBottom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8ac8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15"/>
          <p:cNvSpPr/>
          <p:nvPr/>
        </p:nvSpPr>
        <p:spPr>
          <a:xfrm>
            <a:off x="4952880" y="2819520"/>
            <a:ext cx="439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宋体"/>
              </a:rPr>
              <a:t>低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3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8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55680"/>
            <a:ext cx="7853400" cy="42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小剂量胰岛素静脉微量泵入疗法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228600" y="2133720"/>
            <a:ext cx="6324120" cy="3200040"/>
            <a:chOff x="228600" y="2133720"/>
            <a:chExt cx="6324120" cy="3200040"/>
          </a:xfrm>
        </p:grpSpPr>
        <p:grpSp>
          <p:nvGrpSpPr>
            <p:cNvPr id="266" name="Group 4"/>
            <p:cNvGrpSpPr/>
            <p:nvPr/>
          </p:nvGrpSpPr>
          <p:grpSpPr>
            <a:xfrm>
              <a:off x="228600" y="2133720"/>
              <a:ext cx="6324120" cy="3200040"/>
              <a:chOff x="228600" y="2133720"/>
              <a:chExt cx="6324120" cy="3200040"/>
            </a:xfrm>
          </p:grpSpPr>
          <p:sp>
            <p:nvSpPr>
              <p:cNvPr id="267" name="AutoShape 5"/>
              <p:cNvSpPr/>
              <p:nvPr/>
            </p:nvSpPr>
            <p:spPr>
              <a:xfrm>
                <a:off x="4189320" y="2851920"/>
                <a:ext cx="2363400" cy="2481840"/>
              </a:xfrm>
              <a:custGeom>
                <a:avLst/>
                <a:gdLst>
                  <a:gd name="textAreaLeft" fmla="*/ 0 w 2363400"/>
                  <a:gd name="textAreaRight" fmla="*/ 2363760 w 23634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8043" y="0"/>
                    </a:lnTo>
                    <a:lnTo>
                      <a:pt x="21600" y="10800"/>
                    </a:lnTo>
                    <a:lnTo>
                      <a:pt x="18043" y="21600"/>
                    </a:lnTo>
                    <a:lnTo>
                      <a:pt x="0" y="21600"/>
                    </a:lnTo>
                    <a:lnTo>
                      <a:pt x="3557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ad7e7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8" name="AutoShape 6"/>
              <p:cNvSpPr/>
              <p:nvPr/>
            </p:nvSpPr>
            <p:spPr>
              <a:xfrm>
                <a:off x="220896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f7f7f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69" name="AutoShape 7"/>
              <p:cNvSpPr/>
              <p:nvPr/>
            </p:nvSpPr>
            <p:spPr>
              <a:xfrm>
                <a:off x="228600" y="2851920"/>
                <a:ext cx="2491200" cy="2481840"/>
              </a:xfrm>
              <a:custGeom>
                <a:avLst/>
                <a:gdLst>
                  <a:gd name="textAreaLeft" fmla="*/ 0 w 2491200"/>
                  <a:gd name="textAreaRight" fmla="*/ 2491560 w 2491200"/>
                  <a:gd name="textAreaTop" fmla="*/ 0 h 2481840"/>
                  <a:gd name="textAreaBottom" fmla="*/ 2482200 h 248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7845" y="0"/>
                    </a:lnTo>
                    <a:lnTo>
                      <a:pt x="21600" y="10800"/>
                    </a:lnTo>
                    <a:lnTo>
                      <a:pt x="17845" y="21600"/>
                    </a:lnTo>
                    <a:lnTo>
                      <a:pt x="0" y="21600"/>
                    </a:lnTo>
                    <a:lnTo>
                      <a:pt x="3755" y="108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eaeaea"/>
                </a:solidFill>
                <a:miter/>
              </a:ln>
              <a:effectLst>
                <a:outerShdw dist="109184" dir="3271692" blurRad="0" rotWithShape="0">
                  <a:srgbClr val="333333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0" name="AutoShape 8"/>
              <p:cNvSpPr/>
              <p:nvPr/>
            </p:nvSpPr>
            <p:spPr>
              <a:xfrm>
                <a:off x="420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用法用量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AutoShape 9"/>
              <p:cNvSpPr/>
              <p:nvPr/>
            </p:nvSpPr>
            <p:spPr>
              <a:xfrm>
                <a:off x="236484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27272"/>
                  </a:gs>
                  <a:gs pos="100000">
                    <a:srgbClr val="969696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血糖下降幅度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2" name="AutoShape 10"/>
              <p:cNvSpPr/>
              <p:nvPr/>
            </p:nvSpPr>
            <p:spPr>
              <a:xfrm>
                <a:off x="4317120" y="2133720"/>
                <a:ext cx="1724760" cy="492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ac8de"/>
                  </a:gs>
                  <a:gs pos="100000">
                    <a:srgbClr val="add9e8"/>
                  </a:gs>
                </a:gsLst>
                <a:lin ang="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63504" dir="3183908" blurRad="0" rotWithShape="0">
                  <a:srgbClr val="001d3a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动态调整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73" name="Text Box 11"/>
            <p:cNvSpPr/>
            <p:nvPr/>
          </p:nvSpPr>
          <p:spPr>
            <a:xfrm>
              <a:off x="762120" y="3471840"/>
              <a:ext cx="17301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4" name="Text Box 12"/>
            <p:cNvSpPr/>
            <p:nvPr/>
          </p:nvSpPr>
          <p:spPr>
            <a:xfrm>
              <a:off x="2759040" y="3484440"/>
              <a:ext cx="1730520" cy="31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8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5" name="Text Box 13"/>
            <p:cNvSpPr/>
            <p:nvPr/>
          </p:nvSpPr>
          <p:spPr>
            <a:xfrm>
              <a:off x="4746600" y="3484440"/>
              <a:ext cx="1730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20600" indent="-120600">
                <a:lnSpc>
                  <a:spcPct val="6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6" name="AutoShape 14"/>
          <p:cNvSpPr/>
          <p:nvPr/>
        </p:nvSpPr>
        <p:spPr>
          <a:xfrm>
            <a:off x="6934320" y="1828800"/>
            <a:ext cx="1828800" cy="4191120"/>
          </a:xfrm>
          <a:custGeom>
            <a:avLst/>
            <a:gdLst>
              <a:gd name="textAreaLeft" fmla="*/ 48600 w 1828800"/>
              <a:gd name="textAreaRight" fmla="*/ 1780200 w 1828800"/>
              <a:gd name="textAreaTop" fmla="*/ 48600 h 4191120"/>
              <a:gd name="textAreaBottom" fmla="*/ 4142520 h 4191120"/>
            </a:gdLst>
            <a:ahLst/>
            <a:rect l="textAreaLeft" t="textAreaTop" r="textAreaRight" b="textAreaBottom"/>
            <a:pathLst>
              <a:path w="21600" h="49496">
                <a:moveTo>
                  <a:pt x="1967" y="0"/>
                </a:moveTo>
                <a:arcTo wR="1967" hR="1967" stAng="16200000" swAng="-5400000"/>
                <a:lnTo>
                  <a:pt x="0" y="47529"/>
                </a:lnTo>
                <a:arcTo wR="1967" hR="1967" stAng="10800000" swAng="-5400000"/>
                <a:lnTo>
                  <a:pt x="19633" y="49496"/>
                </a:lnTo>
                <a:arcTo wR="1967" hR="1967" stAng="5400000" swAng="-5400000"/>
                <a:lnTo>
                  <a:pt x="21600" y="1967"/>
                </a:lnTo>
                <a:arcTo wR="1967" hR="1967" stAng="0" swAng="-5400000"/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0"/>
          </a:gradFill>
          <a:ln w="255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7" name="Picture 15" descr="QQ图片20141218203706"/>
          <p:cNvPicPr/>
          <p:nvPr/>
        </p:nvPicPr>
        <p:blipFill>
          <a:blip r:embed="rId1"/>
          <a:stretch/>
        </p:blipFill>
        <p:spPr>
          <a:xfrm>
            <a:off x="685800" y="2895480"/>
            <a:ext cx="5486400" cy="246852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6"/>
          <p:cNvSpPr/>
          <p:nvPr/>
        </p:nvSpPr>
        <p:spPr>
          <a:xfrm>
            <a:off x="5257800" y="373392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79" name="Picture 17" descr="7(HJ_G]HNNNZ2XIHVCH9{25"/>
          <p:cNvPicPr/>
          <p:nvPr/>
        </p:nvPicPr>
        <p:blipFill>
          <a:blip r:embed="rId2"/>
          <a:stretch/>
        </p:blipFill>
        <p:spPr>
          <a:xfrm>
            <a:off x="685800" y="297180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8" descr=""/>
          <p:cNvPicPr/>
          <p:nvPr/>
        </p:nvPicPr>
        <p:blipFill>
          <a:blip r:embed="rId3"/>
          <a:stretch/>
        </p:blipFill>
        <p:spPr>
          <a:xfrm>
            <a:off x="685800" y="2895480"/>
            <a:ext cx="5410080" cy="2286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19" descr=""/>
          <p:cNvPicPr/>
          <p:nvPr/>
        </p:nvPicPr>
        <p:blipFill>
          <a:blip r:embed="rId4"/>
          <a:stretch/>
        </p:blipFill>
        <p:spPr>
          <a:xfrm>
            <a:off x="6858000" y="3276720"/>
            <a:ext cx="2000160" cy="100944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C:\Users\Administrator\Desktop\最终2.jpg"/>
          <p:cNvPicPr/>
          <p:nvPr/>
        </p:nvPicPr>
        <p:blipFill>
          <a:blip r:embed="rId5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 应激性高血糖患者的护理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42840" y="1700280"/>
            <a:ext cx="7893360" cy="43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观察病情变化，积极预防并发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密切监测血糖的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正确的营养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低血糖的预防及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加强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8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61880" y="431280"/>
            <a:ext cx="6954840" cy="42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观察病情变化，预防并发症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03440" y="1372680"/>
            <a:ext cx="77342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严密观察患者生命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呼吸道管理，根据情况实施胸部物理治疗，预防呼吸系统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准确记录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小时出入量和每小时尿量，合理补液，预防休克的出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监测电解质和酸碱的变化  遵医嘱正确采集血标本送检，定时监测血酮、血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及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N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等，及时对症处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46ca6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加强基础护理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8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195280" y="333000"/>
            <a:ext cx="4413240" cy="45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血糖监测频率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533520" y="1447920"/>
            <a:ext cx="8152920" cy="4800240"/>
            <a:chOff x="533520" y="1447920"/>
            <a:chExt cx="8152920" cy="4800240"/>
          </a:xfrm>
        </p:grpSpPr>
        <p:sp>
          <p:nvSpPr>
            <p:cNvPr id="291" name="AutoShape 4"/>
            <p:cNvSpPr/>
            <p:nvPr/>
          </p:nvSpPr>
          <p:spPr>
            <a:xfrm>
              <a:off x="533520" y="1447920"/>
              <a:ext cx="8152920" cy="14893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AutoShape 5"/>
            <p:cNvSpPr/>
            <p:nvPr/>
          </p:nvSpPr>
          <p:spPr>
            <a:xfrm>
              <a:off x="712080" y="158544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8ac8de"/>
                </a:gs>
                <a:gs pos="100000">
                  <a:srgbClr val="608c9b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Freeform 6"/>
            <p:cNvSpPr/>
            <p:nvPr/>
          </p:nvSpPr>
          <p:spPr>
            <a:xfrm>
              <a:off x="808920" y="1663920"/>
              <a:ext cx="785160" cy="60840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8400"/>
                <a:gd name="textAreaBottom" fmla="*/ 608400 h 60840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bfe1ed"/>
                </a:gs>
                <a:gs pos="50000">
                  <a:srgbClr val="8ac8de">
                    <a:alpha val="0"/>
                  </a:srgbClr>
                </a:gs>
                <a:gs pos="100000">
                  <a:srgbClr val="bfe1e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7"/>
            <p:cNvSpPr/>
            <p:nvPr/>
          </p:nvSpPr>
          <p:spPr>
            <a:xfrm>
              <a:off x="1291320" y="191916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8"/>
            <p:cNvSpPr/>
            <p:nvPr/>
          </p:nvSpPr>
          <p:spPr>
            <a:xfrm>
              <a:off x="2498760" y="1678320"/>
              <a:ext cx="59914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治疗初期，应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时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稳定后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监测一次血糖；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胰岛素输注速度改变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每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2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测一次血糖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6" name="AutoShape 9"/>
            <p:cNvSpPr/>
            <p:nvPr/>
          </p:nvSpPr>
          <p:spPr>
            <a:xfrm>
              <a:off x="533520" y="3094560"/>
              <a:ext cx="8152920" cy="14875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7" name="AutoShape 10"/>
            <p:cNvSpPr/>
            <p:nvPr/>
          </p:nvSpPr>
          <p:spPr>
            <a:xfrm>
              <a:off x="712080" y="3230280"/>
              <a:ext cx="1570680" cy="12175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69696"/>
                </a:gs>
                <a:gs pos="100000">
                  <a:srgbClr val="696969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Freeform 11"/>
            <p:cNvSpPr/>
            <p:nvPr/>
          </p:nvSpPr>
          <p:spPr>
            <a:xfrm>
              <a:off x="808920" y="330876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d3d3d3"/>
                </a:gs>
                <a:gs pos="100000">
                  <a:srgbClr val="969696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Text Box 12"/>
            <p:cNvSpPr/>
            <p:nvPr/>
          </p:nvSpPr>
          <p:spPr>
            <a:xfrm>
              <a:off x="1292400" y="356580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3"/>
            <p:cNvSpPr/>
            <p:nvPr/>
          </p:nvSpPr>
          <p:spPr>
            <a:xfrm>
              <a:off x="2498760" y="3296160"/>
              <a:ext cx="5991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血糖变化迅速（即使在理想范围）或在严重范围，如＜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3.5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或＞</a:t>
              </a:r>
              <a:r>
                <a:rPr b="1" lang="en-US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20mmol/L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，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则需要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0.5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测一次血糖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AutoShape 14"/>
            <p:cNvSpPr/>
            <p:nvPr/>
          </p:nvSpPr>
          <p:spPr>
            <a:xfrm>
              <a:off x="533520" y="4759200"/>
              <a:ext cx="8152920" cy="14889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AutoShape 15"/>
            <p:cNvSpPr/>
            <p:nvPr/>
          </p:nvSpPr>
          <p:spPr>
            <a:xfrm>
              <a:off x="712080" y="4896360"/>
              <a:ext cx="1570680" cy="12182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ddb523"/>
                </a:gs>
                <a:gs pos="100000">
                  <a:srgbClr val="9a7e18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6"/>
            <p:cNvSpPr/>
            <p:nvPr/>
          </p:nvSpPr>
          <p:spPr>
            <a:xfrm>
              <a:off x="808920" y="4974840"/>
              <a:ext cx="785160" cy="6091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609120"/>
                <a:gd name="textAreaBottom" fmla="*/ 609480 h 609120"/>
              </a:gdLst>
              <a:ahLst/>
              <a:rect l="textAreaLeft" t="textAreaTop" r="textAreaRight" b="textAreaBottom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edb94"/>
                </a:gs>
                <a:gs pos="100000">
                  <a:srgbClr val="ddb523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4" name="Text Box 17"/>
            <p:cNvSpPr/>
            <p:nvPr/>
          </p:nvSpPr>
          <p:spPr>
            <a:xfrm>
              <a:off x="1291320" y="5228640"/>
              <a:ext cx="37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5" name="Text Box 18"/>
            <p:cNvSpPr/>
            <p:nvPr/>
          </p:nvSpPr>
          <p:spPr>
            <a:xfrm>
              <a:off x="2498760" y="4962240"/>
              <a:ext cx="5991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行肠内或肠外营养的危重患者，常规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4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～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6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小时</a:t>
              </a:r>
              <a:r>
                <a:rPr b="1" lang="en-US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1</a:t>
              </a:r>
              <a:r>
                <a:rPr b="1" lang="zh-CN" sz="2000" spc="-1" strike="noStrike">
                  <a:solidFill>
                    <a:srgbClr val="ff3300"/>
                  </a:solidFill>
                  <a:latin typeface="Arial"/>
                  <a:ea typeface="宋体"/>
                </a:rPr>
                <a:t>次</a:t>
              </a:r>
              <a:r>
                <a:rPr b="1" lang="zh-CN" sz="20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检测血糖，警惕进食后高血糖和进食中断后的低血。</a:t>
              </a:r>
              <a:endParaRPr b="0" lang="en-US" sz="20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306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0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547640" y="0"/>
            <a:ext cx="518184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09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3"/>
          <p:cNvPicPr/>
          <p:nvPr/>
        </p:nvPicPr>
        <p:blipFill>
          <a:blip r:embed="rId2"/>
          <a:stretch/>
        </p:blipFill>
        <p:spPr>
          <a:xfrm>
            <a:off x="1066680" y="1600200"/>
            <a:ext cx="70866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6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034720" y="431640"/>
            <a:ext cx="501012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宋体"/>
              </a:rPr>
              <a:t>血糖监测的注意事项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3" name="Picture 4" descr="4"/>
          <p:cNvPicPr/>
          <p:nvPr/>
        </p:nvPicPr>
        <p:blipFill>
          <a:blip r:embed="rId1"/>
          <a:stretch/>
        </p:blipFill>
        <p:spPr>
          <a:xfrm>
            <a:off x="762120" y="1676520"/>
            <a:ext cx="7543800" cy="4670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2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763280" y="0"/>
            <a:ext cx="52578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正确的营养支持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24000" y="1412640"/>
            <a:ext cx="85341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对应激性高血糖的危重患者，应尽早进行合理的肠内、肠外营养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避免高能量、高葡萄糖的饮食，建议选择低碳水化合物、高单不饱和脂肪酸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MUF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的配方，其中膳食纤维和其他微量元素在控制血糖中也有着重要的作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大量的研究和实验证明：糖尿病专用配方能很好的控制血糖的水平，减少胰岛素用量，而降低了低血糖的风险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无论鼻饲还是静脉滴注营养液，在使用过程中都应当持续、匀速输注，避免血糖波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1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8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618920" y="0"/>
            <a:ext cx="57913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ffffff"/>
                </a:solidFill>
                <a:latin typeface="Verdana"/>
                <a:ea typeface="宋体"/>
              </a:rPr>
              <a:t>低血糖的预防及处理</a:t>
            </a:r>
            <a:endParaRPr b="0" lang="en-US" sz="3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947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在处理危重患者的应激性高血糖的过程中，应密切观察病情，定时监测血糖，及时调整胰岛素入量，防止因</a:t>
            </a:r>
            <a:r>
              <a:rPr b="1" lang="zh-CN" sz="3200" spc="-1" strike="noStrike">
                <a:solidFill>
                  <a:srgbClr val="fe230c"/>
                </a:solidFill>
                <a:latin typeface="Verdana"/>
                <a:ea typeface="宋体"/>
              </a:rPr>
              <a:t>胰岛素使用过量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而引起低血糖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0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4" dur="2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E050-067F-4FBC-BF9A-6AC152F74B9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772400" cy="45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808000" cy="385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Verdana"/>
                <a:ea typeface="宋体"/>
              </a:rPr>
              <a:t>内分泌系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分泌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1" name="AutoShape 7"/>
          <p:cNvSpPr/>
          <p:nvPr/>
        </p:nvSpPr>
        <p:spPr>
          <a:xfrm>
            <a:off x="3924360" y="1628640"/>
            <a:ext cx="4968720" cy="288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899" y="6120"/>
                </a:moveTo>
                <a:lnTo>
                  <a:pt x="-331" y="857"/>
                </a:lnTo>
              </a:path>
              <a:path w="21600" h="21600">
                <a:moveTo>
                  <a:pt x="-331" y="0"/>
                </a:moveTo>
                <a:lnTo>
                  <a:pt x="-331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系统由内分泌腺和内分泌细胞组成，是机体的重要调节系统，与神经系统、免疫系统相互配合，共同调节机体的生长、发育、代谢、运动、生殖等，维持内环境的相对稳定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bki-20130822155932-628659008"/>
          <p:cNvPicPr/>
          <p:nvPr/>
        </p:nvPicPr>
        <p:blipFill>
          <a:blip r:embed="rId1"/>
          <a:stretch/>
        </p:blipFill>
        <p:spPr>
          <a:xfrm>
            <a:off x="611280" y="255600"/>
            <a:ext cx="8137440" cy="5959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3" descr="C:\Users\Administrator\Desktop\最终2.jpg"/>
          <p:cNvPicPr/>
          <p:nvPr/>
        </p:nvPicPr>
        <p:blipFill>
          <a:blip r:embed="rId2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0"/>
            <a:ext cx="30481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低血糖处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10480" cy="31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应立即暂停胰岛素的泵入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予以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1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静脉滴注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严重者静脉推注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50%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葡萄糖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40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60ml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25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63868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6" dur="2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WordArt 2"/>
          <p:cNvSpPr txBox="1"/>
          <p:nvPr/>
        </p:nvSpPr>
        <p:spPr>
          <a:xfrm>
            <a:off x="1476360" y="2205000"/>
            <a:ext cx="6375240" cy="24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69696"/>
                    </a:gs>
                    <a:gs pos="100000">
                      <a:srgbClr val="ddb523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dddddd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i="1" lang="en-US" sz="24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69696"/>
                  </a:gs>
                  <a:gs pos="100000">
                    <a:srgbClr val="ddb523"/>
                  </a:gs>
                </a:gsLst>
                <a:lin ang="0"/>
              </a:gradFill>
              <a:effectLst>
                <a:outerShdw dist="53966" dir="2700000" blurRad="0" rotWithShape="0">
                  <a:srgbClr val="dddddd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327" name="Picture 3" descr="C:\Users\Administrator\Desktop\最终2.jpg"/>
          <p:cNvPicPr/>
          <p:nvPr/>
        </p:nvPicPr>
        <p:blipFill>
          <a:blip r:embed="rId1"/>
          <a:stretch/>
        </p:blipFill>
        <p:spPr>
          <a:xfrm>
            <a:off x="7924680" y="5486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1000"/>
                            </p:stCondLst>
                            <p:childTnLst>
                              <p:par>
                                <p:cTn id="31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19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42,64,89)"/>
                                      </p:to>
                                    </p:set>
                                    <p:set>
                                      <p:cBhvr>
                                        <p:cTn id="320" dur="500" autoRev="1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2" dur="2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6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9F57D-DC01-4AEB-BA0B-208E04BEDA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11280" y="2133720"/>
            <a:ext cx="2641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Verdana"/>
                <a:ea typeface="宋体"/>
              </a:rPr>
              <a:t>内分泌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激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矩形 8"/>
          <p:cNvSpPr/>
          <p:nvPr/>
        </p:nvSpPr>
        <p:spPr>
          <a:xfrm flipH="1">
            <a:off x="6012000" y="260280"/>
            <a:ext cx="299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内分泌与激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AutoShape 12"/>
          <p:cNvSpPr/>
          <p:nvPr/>
        </p:nvSpPr>
        <p:spPr>
          <a:xfrm>
            <a:off x="4716360" y="1844640"/>
            <a:ext cx="3888000" cy="2879640"/>
          </a:xfrm>
          <a:prstGeom prst="borderCallout1">
            <a:avLst>
              <a:gd name="adj1" fmla="val 18750"/>
              <a:gd name="adj2" fmla="val -8333"/>
              <a:gd name="adj3" fmla="val 57550"/>
              <a:gd name="adj4" fmla="val -5177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内分泌腺是指人体内一些无输出导管的腺体，主要包括垂体、甲状腺、甲状旁腺、胸腺、肾上腺、胰岛、性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等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80C2-0A22-428A-8650-C7FE2106054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96000" y="333360"/>
            <a:ext cx="314496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内分泌与激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280" y="2708280"/>
            <a:ext cx="208908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系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内分泌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970d24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  <a:ea typeface="宋体"/>
              </a:rPr>
              <a:t>激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AutoShape 4"/>
          <p:cNvSpPr/>
          <p:nvPr/>
        </p:nvSpPr>
        <p:spPr>
          <a:xfrm>
            <a:off x="4572000" y="1700280"/>
            <a:ext cx="4248000" cy="3816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3690" y="15176"/>
                </a:moveTo>
                <a:lnTo>
                  <a:pt x="-387" y="647"/>
                </a:lnTo>
              </a:path>
              <a:path w="21600" h="21600">
                <a:moveTo>
                  <a:pt x="-387" y="0"/>
                </a:moveTo>
                <a:lnTo>
                  <a:pt x="-387" y="21600"/>
                </a:lnTo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是指内分泌腺或内分泌细胞分泌的高效生物活性物质，它是传递信息的化学信号物质，其作用有明显的特异性，只针对特定的受体发挥作用。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激素的作用方式有四种形式：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内分泌、旁分泌、自分泌、胞内分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423E0-AF78-4C2A-832E-384C319E2E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2" name="Picture 6" descr="1COJDI9}L[2LEY[IZ_AE8[8"/>
          <p:cNvPicPr/>
          <p:nvPr/>
        </p:nvPicPr>
        <p:blipFill>
          <a:blip r:embed="rId1"/>
          <a:stretch/>
        </p:blipFill>
        <p:spPr>
          <a:xfrm>
            <a:off x="900000" y="1125360"/>
            <a:ext cx="7488360" cy="52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47280" y="260280"/>
            <a:ext cx="7417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血糖代谢的调节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激素对血糖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4" name="Picture 6" descr="图11-3"/>
          <p:cNvPicPr/>
          <p:nvPr/>
        </p:nvPicPr>
        <p:blipFill>
          <a:blip r:embed="rId1"/>
          <a:stretch/>
        </p:blipFill>
        <p:spPr>
          <a:xfrm>
            <a:off x="4343400" y="1143000"/>
            <a:ext cx="4800600" cy="49878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95280" y="1341360"/>
            <a:ext cx="367200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岛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促进全身组织对糖的摄取、储存和利用，从而使血糖浓度降低。胰岛素是体内唯一降低血糖浓度的激素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e230c"/>
                </a:solidFill>
                <a:latin typeface="Verdana"/>
                <a:ea typeface="宋体"/>
              </a:rPr>
              <a:t>胰高血糖素：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与胰岛素的作用相反，促进肝糖原分解进入血液，促进脂肪酸和氨基酸等非糖物质转化成葡萄糖，最终使血糖含量升高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d149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肾上腺素、肾上腺糖皮质激素、甲状腺激素、生长激素等均有升高血糖的功能。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09-02T00:16:59Z</dcterms:modified>
  <cp:revision>102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